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DC98-1263-42BB-9768-CBC632953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841D-5590-4E08-9988-811B1272E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92D1-9524-4945-9A42-6769C58DA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496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412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0496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2412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F156-D8C5-4FA8-B5AE-29B2CCEAF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BFDD7-B820-4983-A1F9-1DE27B05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174D0-EBEF-44D9-AC44-72AA24F6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AB384-1DEF-42D2-80E9-19705BC2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FFB27-8425-49BF-BABA-D96A539A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20DBB-2670-4903-80A5-186C3A97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644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BCF91-5C96-4F5F-957E-80DAA5C4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8E7CF-1294-4550-AFA3-BC88E85D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E129-ECEC-47AF-A19C-E64A91F57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2E9E7-A975-4E14-9253-B25587D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C9C0B-F296-4F71-AA61-DB0B550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50596-5E1A-4611-93E7-4C642FC8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92AA7-4893-4C4C-8C6D-26AE22D4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496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24120" y="144792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0496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24120" y="4034880"/>
            <a:ext cx="268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CCF78-93C1-4390-96B0-32977C7C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A1EA-C7B0-4106-BD29-9E0365A5B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94FA-6150-4A00-8DEF-2DD46AA00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DE57-6AF9-4FE6-9F61-890514C2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120" y="22644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AD49-4384-4603-90FE-5B2FCD6AB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B134-439E-4329-9D71-30585D37C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8280" y="403488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A27B-ED5A-424E-BC25-F6C26977A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8280" y="1447920"/>
            <a:ext cx="406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833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FEF3-062D-4F67-871F-ED8CE8C36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6950160" cy="745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1"/>
          </p:nvPr>
        </p:nvSpPr>
        <p:spPr>
          <a:xfrm>
            <a:off x="685440" y="6438960"/>
            <a:ext cx="4267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2"/>
          </p:nvPr>
        </p:nvSpPr>
        <p:spPr>
          <a:xfrm>
            <a:off x="7467480" y="6438960"/>
            <a:ext cx="14572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4AB1-52EF-4FEB-8DFA-75B17E9529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400" y="188640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3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2819520" y="640044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44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F733-CBA8-4D55-8111-CAF5CC9FA2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337760"/>
            <a:ext cx="7678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Advanced Algorithm </a:t>
            </a:r>
            <a:br>
              <a:rPr sz="3600"/>
            </a:b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Design and Analysis (Lecture 4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W5 fall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monas </a:t>
            </a:r>
            <a:r>
              <a:rPr b="0" i="1" lang="lt-LT" sz="2800" spc="-1" strike="noStrike">
                <a:solidFill>
                  <a:srgbClr val="000000"/>
                </a:solidFill>
                <a:latin typeface="Verdana"/>
              </a:rPr>
              <a:t>Šalteni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1-215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Verdana"/>
              </a:rPr>
              <a:t>sima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@cs.aau.d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mpact Tries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Compact 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one-child nodes with an edge labeled with a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non-leaf node (except root) has at least two children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93720" y="4005360"/>
            <a:ext cx="4030560" cy="2318760"/>
            <a:chOff x="693720" y="4005360"/>
            <a:chExt cx="4030560" cy="2318760"/>
          </a:xfrm>
        </p:grpSpPr>
        <p:sp>
          <p:nvSpPr>
            <p:cNvPr id="301" name=""/>
            <p:cNvSpPr/>
            <p:nvPr/>
          </p:nvSpPr>
          <p:spPr>
            <a:xfrm>
              <a:off x="2222640" y="407952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301" idx="3"/>
              <a:endCxn id="303" idx="7"/>
            </p:cNvCxnSpPr>
            <p:nvPr/>
          </p:nvCxnSpPr>
          <p:spPr>
            <a:xfrm flipH="1">
              <a:off x="2031480" y="4187520"/>
              <a:ext cx="208800" cy="187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03" name=""/>
            <p:cNvSpPr/>
            <p:nvPr/>
          </p:nvSpPr>
          <p:spPr>
            <a:xfrm>
              <a:off x="1930320" y="43653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04960" y="43671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7000" y="40320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304" idx="1"/>
              <a:endCxn id="301" idx="5"/>
            </p:cNvCxnSpPr>
            <p:nvPr/>
          </p:nvCxnSpPr>
          <p:spPr>
            <a:xfrm flipH="1" flipV="1">
              <a:off x="2323440" y="4187160"/>
              <a:ext cx="299160" cy="1893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07" name=""/>
            <p:cNvSpPr/>
            <p:nvPr/>
          </p:nvSpPr>
          <p:spPr>
            <a:xfrm>
              <a:off x="2392200" y="400536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0440" y="467352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"/>
            <p:cNvCxnSpPr>
              <a:stCxn id="308" idx="3"/>
              <a:endCxn id="310" idx="7"/>
            </p:cNvCxnSpPr>
            <p:nvPr/>
          </p:nvCxnSpPr>
          <p:spPr>
            <a:xfrm flipH="1">
              <a:off x="1439280" y="4781160"/>
              <a:ext cx="208440" cy="1875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10" name=""/>
            <p:cNvSpPr/>
            <p:nvPr/>
          </p:nvSpPr>
          <p:spPr>
            <a:xfrm>
              <a:off x="1338120" y="4959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86120" y="478152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"/>
            <p:cNvCxnSpPr>
              <a:stCxn id="303" idx="3"/>
              <a:endCxn id="308" idx="7"/>
            </p:cNvCxnSpPr>
            <p:nvPr/>
          </p:nvCxnSpPr>
          <p:spPr>
            <a:xfrm flipH="1">
              <a:off x="1731600" y="4473000"/>
              <a:ext cx="216720" cy="209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13" name=""/>
            <p:cNvSpPr/>
            <p:nvPr/>
          </p:nvSpPr>
          <p:spPr>
            <a:xfrm>
              <a:off x="2793960" y="54939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28880" y="524952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6560" y="55353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>
              <a:stCxn id="310" idx="3"/>
              <a:endCxn id="314" idx="7"/>
            </p:cNvCxnSpPr>
            <p:nvPr/>
          </p:nvCxnSpPr>
          <p:spPr>
            <a:xfrm flipH="1">
              <a:off x="1130040" y="5066640"/>
              <a:ext cx="226080" cy="192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14" idx="3"/>
              <a:endCxn id="315" idx="7"/>
            </p:cNvCxnSpPr>
            <p:nvPr/>
          </p:nvCxnSpPr>
          <p:spPr>
            <a:xfrm flipH="1">
              <a:off x="837720" y="5357520"/>
              <a:ext cx="208800" cy="187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8" name=""/>
            <p:cNvCxnSpPr>
              <a:stCxn id="303" idx="4"/>
              <a:endCxn id="311" idx="0"/>
            </p:cNvCxnSpPr>
            <p:nvPr/>
          </p:nvCxnSpPr>
          <p:spPr>
            <a:xfrm>
              <a:off x="1990800" y="4490640"/>
              <a:ext cx="56160" cy="282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1900080" y="51987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70200" y="557028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1" name=""/>
            <p:cNvCxnSpPr>
              <a:stCxn id="311" idx="4"/>
              <a:endCxn id="319" idx="0"/>
            </p:cNvCxnSpPr>
            <p:nvPr/>
          </p:nvCxnSpPr>
          <p:spPr>
            <a:xfrm flipH="1">
              <a:off x="1960200" y="4906800"/>
              <a:ext cx="86400" cy="284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2" name=""/>
            <p:cNvCxnSpPr>
              <a:stCxn id="319" idx="4"/>
              <a:endCxn id="320" idx="0"/>
            </p:cNvCxnSpPr>
            <p:nvPr/>
          </p:nvCxnSpPr>
          <p:spPr>
            <a:xfrm flipH="1">
              <a:off x="1930320" y="5324400"/>
              <a:ext cx="30600" cy="2383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23" name=""/>
            <p:cNvSpPr/>
            <p:nvPr/>
          </p:nvSpPr>
          <p:spPr>
            <a:xfrm>
              <a:off x="2376360" y="478152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"/>
            <p:cNvCxnSpPr>
              <a:stCxn id="303" idx="5"/>
              <a:endCxn id="323" idx="0"/>
            </p:cNvCxnSpPr>
            <p:nvPr/>
          </p:nvCxnSpPr>
          <p:spPr>
            <a:xfrm>
              <a:off x="2031480" y="4473360"/>
              <a:ext cx="405720" cy="300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25" name=""/>
            <p:cNvSpPr/>
            <p:nvPr/>
          </p:nvSpPr>
          <p:spPr>
            <a:xfrm>
              <a:off x="2401920" y="520668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32160" y="560520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"/>
            <p:cNvCxnSpPr>
              <a:stCxn id="323" idx="4"/>
              <a:endCxn id="325" idx="0"/>
            </p:cNvCxnSpPr>
            <p:nvPr/>
          </p:nvCxnSpPr>
          <p:spPr>
            <a:xfrm>
              <a:off x="2436840" y="4906800"/>
              <a:ext cx="25920" cy="291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8" name=""/>
            <p:cNvCxnSpPr>
              <a:stCxn id="325" idx="4"/>
              <a:endCxn id="326" idx="0"/>
            </p:cNvCxnSpPr>
            <p:nvPr/>
          </p:nvCxnSpPr>
          <p:spPr>
            <a:xfrm>
              <a:off x="2462040" y="5331960"/>
              <a:ext cx="30600" cy="2653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29" name=""/>
            <p:cNvSpPr/>
            <p:nvPr/>
          </p:nvSpPr>
          <p:spPr>
            <a:xfrm>
              <a:off x="2465280" y="599436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"/>
            <p:cNvCxnSpPr>
              <a:stCxn id="326" idx="4"/>
              <a:endCxn id="329" idx="0"/>
            </p:cNvCxnSpPr>
            <p:nvPr/>
          </p:nvCxnSpPr>
          <p:spPr>
            <a:xfrm>
              <a:off x="2491920" y="5730480"/>
              <a:ext cx="34200" cy="255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1" name=""/>
            <p:cNvSpPr/>
            <p:nvPr/>
          </p:nvSpPr>
          <p:spPr>
            <a:xfrm>
              <a:off x="3000240" y="46638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"/>
            <p:cNvCxnSpPr>
              <a:stCxn id="331" idx="5"/>
              <a:endCxn id="333" idx="1"/>
            </p:cNvCxnSpPr>
            <p:nvPr/>
          </p:nvCxnSpPr>
          <p:spPr>
            <a:xfrm>
              <a:off x="3102120" y="4771800"/>
              <a:ext cx="267120" cy="198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3" name=""/>
            <p:cNvSpPr/>
            <p:nvPr/>
          </p:nvSpPr>
          <p:spPr>
            <a:xfrm>
              <a:off x="3351240" y="496080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"/>
            <p:cNvCxnSpPr>
              <a:stCxn id="304" idx="5"/>
              <a:endCxn id="331" idx="1"/>
            </p:cNvCxnSpPr>
            <p:nvPr/>
          </p:nvCxnSpPr>
          <p:spPr>
            <a:xfrm>
              <a:off x="2706840" y="4474440"/>
              <a:ext cx="311760" cy="199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3662280" y="528444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21120" y="5875200"/>
              <a:ext cx="11880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"/>
            <p:cNvCxnSpPr>
              <a:stCxn id="333" idx="5"/>
              <a:endCxn id="335" idx="1"/>
            </p:cNvCxnSpPr>
            <p:nvPr/>
          </p:nvCxnSpPr>
          <p:spPr>
            <a:xfrm>
              <a:off x="3452400" y="5068440"/>
              <a:ext cx="227880" cy="225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38" name=""/>
            <p:cNvSpPr/>
            <p:nvPr/>
          </p:nvSpPr>
          <p:spPr>
            <a:xfrm>
              <a:off x="3206880" y="542736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49560" y="558612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"/>
            <p:cNvCxnSpPr>
              <a:stCxn id="339" idx="5"/>
              <a:endCxn id="341" idx="1"/>
            </p:cNvCxnSpPr>
            <p:nvPr/>
          </p:nvCxnSpPr>
          <p:spPr>
            <a:xfrm>
              <a:off x="4051440" y="5694120"/>
              <a:ext cx="241920" cy="198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41" name=""/>
            <p:cNvSpPr/>
            <p:nvPr/>
          </p:nvSpPr>
          <p:spPr>
            <a:xfrm>
              <a:off x="4275000" y="5883120"/>
              <a:ext cx="119160" cy="11700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"/>
            <p:cNvCxnSpPr>
              <a:stCxn id="335" idx="5"/>
              <a:endCxn id="339" idx="1"/>
            </p:cNvCxnSpPr>
            <p:nvPr/>
          </p:nvCxnSpPr>
          <p:spPr>
            <a:xfrm>
              <a:off x="3763440" y="5392440"/>
              <a:ext cx="204120" cy="2037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43" name=""/>
            <p:cNvSpPr/>
            <p:nvPr/>
          </p:nvSpPr>
          <p:spPr>
            <a:xfrm>
              <a:off x="4586400" y="620676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>
              <a:stCxn id="341" idx="5"/>
              <a:endCxn id="343" idx="1"/>
            </p:cNvCxnSpPr>
            <p:nvPr/>
          </p:nvCxnSpPr>
          <p:spPr>
            <a:xfrm>
              <a:off x="4376880" y="5990760"/>
              <a:ext cx="227520" cy="225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25" idx="5"/>
              <a:endCxn id="313" idx="1"/>
            </p:cNvCxnSpPr>
            <p:nvPr/>
          </p:nvCxnSpPr>
          <p:spPr>
            <a:xfrm>
              <a:off x="2503440" y="5314680"/>
              <a:ext cx="308880" cy="1893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>
              <a:stCxn id="313" idx="5"/>
              <a:endCxn id="336" idx="0"/>
            </p:cNvCxnSpPr>
            <p:nvPr/>
          </p:nvCxnSpPr>
          <p:spPr>
            <a:xfrm>
              <a:off x="2895480" y="5601960"/>
              <a:ext cx="186480" cy="26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7" name=""/>
            <p:cNvCxnSpPr>
              <a:stCxn id="333" idx="3"/>
              <a:endCxn id="338" idx="0"/>
            </p:cNvCxnSpPr>
            <p:nvPr/>
          </p:nvCxnSpPr>
          <p:spPr>
            <a:xfrm flipH="1">
              <a:off x="3266640" y="5068440"/>
              <a:ext cx="102240" cy="3510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348" name=""/>
            <p:cNvSpPr/>
            <p:nvPr/>
          </p:nvSpPr>
          <p:spPr>
            <a:xfrm>
              <a:off x="1604880" y="4316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00680" y="4613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69920" y="4881240"/>
              <a:ext cx="26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3720" y="5154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19800" y="450036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48880" y="48513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84440" y="5262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0840" y="43480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78440" y="488124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2760" y="530676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0" y="5687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3200" y="56116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94520" y="51544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14840" y="43160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96080" y="46209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07840" y="49258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15280" y="5230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6960" y="5535360"/>
              <a:ext cx="2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56040" y="5033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27640" y="5840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862680" y="4191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8" idx="3"/>
            <a:endCxn id="370" idx="7"/>
          </p:cNvCxnSpPr>
          <p:nvPr/>
        </p:nvCxnSpPr>
        <p:spPr>
          <a:xfrm flipH="1">
            <a:off x="6671880" y="4299120"/>
            <a:ext cx="208800" cy="18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6570720" y="4476600"/>
            <a:ext cx="11916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57400" y="4143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73" idx="1"/>
            <a:endCxn id="368" idx="5"/>
          </p:cNvCxnSpPr>
          <p:nvPr/>
        </p:nvCxnSpPr>
        <p:spPr>
          <a:xfrm flipH="1" flipV="1">
            <a:off x="6963480" y="4298400"/>
            <a:ext cx="521640" cy="3178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7158240" y="41940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5064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514044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0" idx="3"/>
            <a:endCxn id="375" idx="7"/>
          </p:cNvCxnSpPr>
          <p:nvPr/>
        </p:nvCxnSpPr>
        <p:spPr>
          <a:xfrm flipH="1">
            <a:off x="5968440" y="4584600"/>
            <a:ext cx="619560" cy="489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7434360" y="560556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0" idx="4"/>
            <a:endCxn id="376" idx="0"/>
          </p:cNvCxnSpPr>
          <p:nvPr/>
        </p:nvCxnSpPr>
        <p:spPr>
          <a:xfrm>
            <a:off x="6630840" y="4601880"/>
            <a:ext cx="59760" cy="531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0" idx="5"/>
            <a:endCxn id="381" idx="0"/>
          </p:cNvCxnSpPr>
          <p:nvPr/>
        </p:nvCxnSpPr>
        <p:spPr>
          <a:xfrm>
            <a:off x="6671880" y="4584600"/>
            <a:ext cx="322920" cy="548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6934320" y="514044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582624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81" idx="4"/>
            <a:endCxn id="382" idx="0"/>
          </p:cNvCxnSpPr>
          <p:nvPr/>
        </p:nvCxnSpPr>
        <p:spPr>
          <a:xfrm>
            <a:off x="6994080" y="5265360"/>
            <a:ext cx="1080" cy="553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7467480" y="46069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73" idx="5"/>
            <a:endCxn id="385" idx="1"/>
          </p:cNvCxnSpPr>
          <p:nvPr/>
        </p:nvCxnSpPr>
        <p:spPr>
          <a:xfrm>
            <a:off x="7569360" y="4714920"/>
            <a:ext cx="513360" cy="358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7620120" y="514044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64360" y="5064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1" idx="5"/>
            <a:endCxn id="378" idx="1"/>
          </p:cNvCxnSpPr>
          <p:nvPr/>
        </p:nvCxnSpPr>
        <p:spPr>
          <a:xfrm>
            <a:off x="7035480" y="5248440"/>
            <a:ext cx="416520" cy="367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73" idx="4"/>
            <a:endCxn id="386" idx="0"/>
          </p:cNvCxnSpPr>
          <p:nvPr/>
        </p:nvCxnSpPr>
        <p:spPr>
          <a:xfrm>
            <a:off x="7527600" y="4732200"/>
            <a:ext cx="153000" cy="401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5808240" y="4498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59320" y="47592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87080" y="468324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67560" y="536904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72640" y="5140440"/>
            <a:ext cx="34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97240" y="46512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y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23120" y="4759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472428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C014-B26F-4F82-90A1-C381387640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mpact Tries I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s are external to the structure in one array, edges are labeled with indices in the array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used to d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ord match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find where the given word appears in the tex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compact trie to “store” all words in the tex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hild in the compact trie has a list of indices in the text where the corresponding word app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172F-7C62-4EDF-AA34-361B0FB85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ord Matching with Tri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4927680"/>
            <a:ext cx="8337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a wor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ach node, follow edg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such tha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= T[i..j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re is no such edge, there is n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therwise, find all starting indices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a leaf is reach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1230480" y="4141800"/>
            <a:ext cx="753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9 10    12   14   16   18   20   22   24   26   28    30   32   34   36   38  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95800" y="15210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404" idx="1"/>
            <a:endCxn id="402" idx="5"/>
          </p:cNvCxnSpPr>
          <p:nvPr/>
        </p:nvCxnSpPr>
        <p:spPr>
          <a:xfrm flipH="1" flipV="1">
            <a:off x="4296600" y="1628280"/>
            <a:ext cx="816840" cy="378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05" name=""/>
          <p:cNvSpPr/>
          <p:nvPr/>
        </p:nvSpPr>
        <p:spPr>
          <a:xfrm>
            <a:off x="3081240" y="2308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33960" y="229248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2" idx="3"/>
            <a:endCxn id="405" idx="7"/>
          </p:cNvCxnSpPr>
          <p:nvPr/>
        </p:nvCxnSpPr>
        <p:spPr>
          <a:xfrm flipH="1">
            <a:off x="3182400" y="1628640"/>
            <a:ext cx="1031040" cy="689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5227560" y="35100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2" idx="4"/>
            <a:endCxn id="406" idx="0"/>
          </p:cNvCxnSpPr>
          <p:nvPr/>
        </p:nvCxnSpPr>
        <p:spPr>
          <a:xfrm>
            <a:off x="4255920" y="1645920"/>
            <a:ext cx="38880" cy="639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6" idx="5"/>
            <a:endCxn id="411" idx="0"/>
          </p:cNvCxnSpPr>
          <p:nvPr/>
        </p:nvCxnSpPr>
        <p:spPr>
          <a:xfrm>
            <a:off x="4335120" y="2400480"/>
            <a:ext cx="454680" cy="529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4729320" y="293688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32320" y="358920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411" idx="4"/>
            <a:endCxn id="412" idx="0"/>
          </p:cNvCxnSpPr>
          <p:nvPr/>
        </p:nvCxnSpPr>
        <p:spPr>
          <a:xfrm flipH="1">
            <a:off x="4492440" y="3062160"/>
            <a:ext cx="297360" cy="519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5095800" y="1996920"/>
            <a:ext cx="11916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"/>
          <p:cNvCxnSpPr>
            <a:stCxn id="404" idx="5"/>
            <a:endCxn id="415" idx="1"/>
          </p:cNvCxnSpPr>
          <p:nvPr/>
        </p:nvCxnSpPr>
        <p:spPr>
          <a:xfrm>
            <a:off x="5197320" y="2104920"/>
            <a:ext cx="718560" cy="3088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5091120" y="27241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7520" y="240336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11" idx="5"/>
            <a:endCxn id="408" idx="1"/>
          </p:cNvCxnSpPr>
          <p:nvPr/>
        </p:nvCxnSpPr>
        <p:spPr>
          <a:xfrm>
            <a:off x="4830480" y="3044880"/>
            <a:ext cx="415080" cy="475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04" idx="4"/>
            <a:endCxn id="416" idx="0"/>
          </p:cNvCxnSpPr>
          <p:nvPr/>
        </p:nvCxnSpPr>
        <p:spPr>
          <a:xfrm flipH="1">
            <a:off x="5150880" y="2122200"/>
            <a:ext cx="5400" cy="594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3104280" y="172728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1,3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44840" y="27241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"/>
          <p:cNvCxnSpPr>
            <a:stCxn id="406" idx="2"/>
            <a:endCxn id="420" idx="7"/>
          </p:cNvCxnSpPr>
          <p:nvPr/>
        </p:nvCxnSpPr>
        <p:spPr>
          <a:xfrm flipH="1">
            <a:off x="3546000" y="2350800"/>
            <a:ext cx="680400" cy="383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22" name=""/>
          <p:cNvSpPr/>
          <p:nvPr/>
        </p:nvSpPr>
        <p:spPr>
          <a:xfrm>
            <a:off x="4089240" y="305424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6" idx="4"/>
            <a:endCxn id="422" idx="0"/>
          </p:cNvCxnSpPr>
          <p:nvPr/>
        </p:nvCxnSpPr>
        <p:spPr>
          <a:xfrm flipH="1">
            <a:off x="4149360" y="2417760"/>
            <a:ext cx="144720" cy="629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3409200" y="22305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4,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49360" y="1851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09080" y="15908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7,1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42640" y="221148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9,1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20520" y="201780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2,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60400" y="24620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1080" y="26622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8,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201680" y="4314960"/>
            <a:ext cx="7688160" cy="459720"/>
            <a:chOff x="1201680" y="4314960"/>
            <a:chExt cx="7688160" cy="459720"/>
          </a:xfrm>
        </p:grpSpPr>
        <p:sp>
          <p:nvSpPr>
            <p:cNvPr id="432" name=""/>
            <p:cNvSpPr/>
            <p:nvPr/>
          </p:nvSpPr>
          <p:spPr>
            <a:xfrm>
              <a:off x="1201680" y="4314960"/>
              <a:ext cx="768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hey think that we were there and t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2040" y="4403880"/>
              <a:ext cx="313380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9204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636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603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4464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2860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129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724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8120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6552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4948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3380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1776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2080" y="440388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604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036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54320" y="4403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25840" y="4405320"/>
              <a:ext cx="30891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9108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7504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2748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1180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576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8008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404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4836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323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16640" y="4405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0060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8492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6924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53200" y="44053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1680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0076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85080" y="44067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69040" y="440676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53360" y="440856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37680" y="441000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251960" y="32385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8,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44600" y="30956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4,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26800" y="241308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82480" y="283536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97080" y="3159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80320" y="367524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5,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52680" y="3606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80960" y="281448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26960" y="250200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7720" y="428472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18E7-D8B5-4512-8933-8991FB2881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ord Matching with Tries I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ing of a compact trie for a given tex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 you do that? Describe the compact trie insertion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ning time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ity of word matching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f the text is in external memo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worst-case we d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/O operations just to access single characters in the text – not effici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123F-425E-4C70-9566-8E2F32A85A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Patricia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337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Patricia tr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act trie where each edge’s labe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is replaced b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– from +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>
            <a:off x="1125360" y="5694480"/>
            <a:ext cx="75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9 10    12   14   16   18   20   22   24   26   28    30   32   34   36   38  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91040" y="3073320"/>
            <a:ext cx="11916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8" idx="1"/>
            <a:endCxn id="486" idx="5"/>
          </p:cNvCxnSpPr>
          <p:nvPr/>
        </p:nvCxnSpPr>
        <p:spPr>
          <a:xfrm flipH="1" flipV="1">
            <a:off x="4191840" y="3180960"/>
            <a:ext cx="816840" cy="378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976480" y="386064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29200" y="3844800"/>
            <a:ext cx="118800" cy="11772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86" idx="3"/>
            <a:endCxn id="489" idx="7"/>
          </p:cNvCxnSpPr>
          <p:nvPr/>
        </p:nvCxnSpPr>
        <p:spPr>
          <a:xfrm flipH="1">
            <a:off x="3077640" y="3181320"/>
            <a:ext cx="1031040" cy="689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5122800" y="506268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86" idx="4"/>
            <a:endCxn id="490" idx="0"/>
          </p:cNvCxnSpPr>
          <p:nvPr/>
        </p:nvCxnSpPr>
        <p:spPr>
          <a:xfrm>
            <a:off x="4151160" y="3198960"/>
            <a:ext cx="38880" cy="638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0" idx="5"/>
            <a:endCxn id="495" idx="0"/>
          </p:cNvCxnSpPr>
          <p:nvPr/>
        </p:nvCxnSpPr>
        <p:spPr>
          <a:xfrm>
            <a:off x="4230360" y="3952440"/>
            <a:ext cx="454680" cy="529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4624560" y="4489560"/>
            <a:ext cx="11880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27560" y="514188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5" idx="4"/>
            <a:endCxn id="496" idx="0"/>
          </p:cNvCxnSpPr>
          <p:nvPr/>
        </p:nvCxnSpPr>
        <p:spPr>
          <a:xfrm flipH="1">
            <a:off x="4386960" y="4614840"/>
            <a:ext cx="297720" cy="519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4991040" y="35496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88" idx="5"/>
            <a:endCxn id="499" idx="1"/>
          </p:cNvCxnSpPr>
          <p:nvPr/>
        </p:nvCxnSpPr>
        <p:spPr>
          <a:xfrm>
            <a:off x="5092560" y="3657240"/>
            <a:ext cx="718560" cy="3085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86360" y="42768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92760" y="395604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95" idx="5"/>
            <a:endCxn id="492" idx="1"/>
          </p:cNvCxnSpPr>
          <p:nvPr/>
        </p:nvCxnSpPr>
        <p:spPr>
          <a:xfrm>
            <a:off x="4725720" y="4597560"/>
            <a:ext cx="415080" cy="4752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88" idx="4"/>
            <a:endCxn id="500" idx="0"/>
          </p:cNvCxnSpPr>
          <p:nvPr/>
        </p:nvCxnSpPr>
        <p:spPr>
          <a:xfrm flipH="1">
            <a:off x="5046120" y="3674880"/>
            <a:ext cx="5400" cy="594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089520" y="3279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40080" y="42768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490" idx="2"/>
            <a:endCxn id="504" idx="7"/>
          </p:cNvCxnSpPr>
          <p:nvPr/>
        </p:nvCxnSpPr>
        <p:spPr>
          <a:xfrm flipH="1">
            <a:off x="3441240" y="3903840"/>
            <a:ext cx="680400" cy="383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6" name=""/>
          <p:cNvSpPr/>
          <p:nvPr/>
        </p:nvSpPr>
        <p:spPr>
          <a:xfrm>
            <a:off x="3984480" y="46069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490" idx="4"/>
            <a:endCxn id="506" idx="0"/>
          </p:cNvCxnSpPr>
          <p:nvPr/>
        </p:nvCxnSpPr>
        <p:spPr>
          <a:xfrm flipH="1">
            <a:off x="4044600" y="3970440"/>
            <a:ext cx="144720" cy="629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402360" y="3846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91520" y="34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1360" y="3143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49840" y="3724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_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01360" y="35701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68960" y="4038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28160" y="42148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i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096920" y="5867280"/>
            <a:ext cx="7688160" cy="459720"/>
            <a:chOff x="1096920" y="5867280"/>
            <a:chExt cx="7688160" cy="459720"/>
          </a:xfrm>
        </p:grpSpPr>
        <p:sp>
          <p:nvSpPr>
            <p:cNvPr id="516" name=""/>
            <p:cNvSpPr/>
            <p:nvPr/>
          </p:nvSpPr>
          <p:spPr>
            <a:xfrm>
              <a:off x="1096920" y="5867280"/>
              <a:ext cx="768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hey think that we were there and t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87280" y="5956200"/>
              <a:ext cx="313380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8728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555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3988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2384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081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9248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7644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6076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472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904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1300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97320" y="595620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8128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6560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49560" y="595620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21080" y="5957640"/>
              <a:ext cx="30891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8632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7028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272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704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9100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7532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5928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4360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275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11880" y="595764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9584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8016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6448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48440" y="595764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1204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9600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80320" y="59590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64280" y="59590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48600" y="596088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32920" y="59623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267800" y="479124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41280" y="46483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y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22040" y="396540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77360" y="438768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92320" y="471168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75560" y="52275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5,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47920" y="51595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200" y="436716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22200" y="405432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2960" y="5837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5B7E-7205-4BDF-A127-0B0B44161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Querying Patricia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ord pref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query: find all words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start wi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0.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>
            <a:off x="689040" y="2560680"/>
            <a:ext cx="830880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tricia-Sear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 P, k)     //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serts P int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 is lea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   j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rst index in the t.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[j..j+m-1] = P[0..m-1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list    // exact mat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here is a child-edge (P[k],s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 s &lt; 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tricia-Searc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, P, k+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 to any descendent leaf of t and d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eck of line 03, if it is true,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s of all descendent leafs of t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therwise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thing is fou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D780-2EBF-475B-BFE3-66AE577EEF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nalysis of the Patricia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dea of patricia trie – postpone the actual comparison with the text to the 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text is in external memory only O(1) I/O are performed (if the trie fits in main-mem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a Patricia Trie for word match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binary patricia tries are us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binary encoding of text (and que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node in the tree has two children (left for 0, right for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ges are labeled just with skip values (in bi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>
            <a:off x="1125360" y="3505320"/>
            <a:ext cx="75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9 10    12   14   16   18   20   22   24   26   28    30   32   34   36   38  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096920" y="3678120"/>
            <a:ext cx="7688160" cy="459720"/>
            <a:chOff x="1096920" y="3678120"/>
            <a:chExt cx="7688160" cy="459720"/>
          </a:xfrm>
        </p:grpSpPr>
        <p:sp>
          <p:nvSpPr>
            <p:cNvPr id="572" name=""/>
            <p:cNvSpPr/>
            <p:nvPr/>
          </p:nvSpPr>
          <p:spPr>
            <a:xfrm>
              <a:off x="1096920" y="3678120"/>
              <a:ext cx="768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400" spc="-1" strike="noStrike">
                  <a:solidFill>
                    <a:srgbClr val="000000"/>
                  </a:solidFill>
                  <a:latin typeface="Courier New"/>
                </a:rPr>
                <a:t>føtex har haft en fødselsda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7280" y="3767040"/>
              <a:ext cx="313380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8728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7160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555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3988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2384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081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9248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7644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6076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4472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2904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1300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97320" y="3767040"/>
              <a:ext cx="18396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8128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6560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49560" y="376704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21080" y="3768480"/>
              <a:ext cx="30891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8632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7028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2272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0704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9100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7532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5928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4360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275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11880" y="376848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9584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8016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448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48440" y="376848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204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9600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80320" y="376992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64280" y="3769920"/>
              <a:ext cx="18432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48600" y="3771720"/>
              <a:ext cx="184320" cy="288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2920" y="3773160"/>
              <a:ext cx="183960" cy="289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32960" y="36482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C7D1-C277-4EC0-B268-0EBA530B74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ext-Search Problem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r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occurrenc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ormulate the probl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Find all suffixes of T that has P as a prefix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lready saw how to do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ord prefi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"/>
          <p:cNvSpPr/>
          <p:nvPr/>
        </p:nvSpPr>
        <p:spPr>
          <a:xfrm>
            <a:off x="6433920" y="1981080"/>
            <a:ext cx="12477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C8F5-D323-48D8-8B7D-E5B554CD21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uffix Tre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Suffix tre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 compact trie (or similar structure) of all suffixes of the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ricia trie of suffixes is sometime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t tre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3581640" y="5580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rara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72000" y="5668920"/>
            <a:ext cx="145728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672000" y="566892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5960" y="5670720"/>
            <a:ext cx="18432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40280" y="5670720"/>
            <a:ext cx="18396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24240" y="566892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08560" y="5670720"/>
            <a:ext cx="18396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92520" y="5670720"/>
            <a:ext cx="18432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76840" y="566892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87760" y="53784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19280" y="340056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7" idx="3"/>
            <a:endCxn id="629" idx="7"/>
          </p:cNvCxnSpPr>
          <p:nvPr/>
        </p:nvCxnSpPr>
        <p:spPr>
          <a:xfrm flipH="1">
            <a:off x="2082240" y="3507840"/>
            <a:ext cx="454680" cy="235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1981080" y="37339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37320" y="33526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"/>
          <p:cNvCxnSpPr>
            <a:stCxn id="632" idx="1"/>
            <a:endCxn id="627" idx="5"/>
          </p:cNvCxnSpPr>
          <p:nvPr/>
        </p:nvCxnSpPr>
        <p:spPr>
          <a:xfrm flipH="1" flipV="1">
            <a:off x="2620080" y="3507480"/>
            <a:ext cx="597960" cy="235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808360" y="3348000"/>
            <a:ext cx="2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14600" y="41227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66840" y="4324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27" idx="4"/>
            <a:endCxn id="634" idx="0"/>
          </p:cNvCxnSpPr>
          <p:nvPr/>
        </p:nvCxnSpPr>
        <p:spPr>
          <a:xfrm flipH="1">
            <a:off x="2574360" y="3525840"/>
            <a:ext cx="5400" cy="5896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1752480" y="4648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"/>
          <p:cNvCxnSpPr>
            <a:stCxn id="629" idx="4"/>
            <a:endCxn id="635" idx="0"/>
          </p:cNvCxnSpPr>
          <p:nvPr/>
        </p:nvCxnSpPr>
        <p:spPr>
          <a:xfrm>
            <a:off x="2041560" y="3859200"/>
            <a:ext cx="18648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29" idx="3"/>
            <a:endCxn id="640" idx="0"/>
          </p:cNvCxnSpPr>
          <p:nvPr/>
        </p:nvCxnSpPr>
        <p:spPr>
          <a:xfrm flipH="1">
            <a:off x="1583640" y="3841920"/>
            <a:ext cx="415080" cy="342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40" name=""/>
          <p:cNvSpPr/>
          <p:nvPr/>
        </p:nvSpPr>
        <p:spPr>
          <a:xfrm>
            <a:off x="1523880" y="41911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72428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>
            <a:stCxn id="640" idx="3"/>
            <a:endCxn id="641" idx="0"/>
          </p:cNvCxnSpPr>
          <p:nvPr/>
        </p:nvCxnSpPr>
        <p:spPr>
          <a:xfrm flipH="1">
            <a:off x="1355400" y="4298760"/>
            <a:ext cx="186480" cy="4179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3200400" y="373392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"/>
          <p:cNvCxnSpPr>
            <a:stCxn id="632" idx="5"/>
            <a:endCxn id="644" idx="1"/>
          </p:cNvCxnSpPr>
          <p:nvPr/>
        </p:nvCxnSpPr>
        <p:spPr>
          <a:xfrm>
            <a:off x="3301560" y="3841560"/>
            <a:ext cx="437400" cy="441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3030480" y="43578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20960" y="427356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>
            <a:stCxn id="640" idx="5"/>
            <a:endCxn id="637" idx="1"/>
          </p:cNvCxnSpPr>
          <p:nvPr/>
        </p:nvCxnSpPr>
        <p:spPr>
          <a:xfrm>
            <a:off x="1625400" y="4299120"/>
            <a:ext cx="144720" cy="358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47" name=""/>
          <p:cNvCxnSpPr>
            <a:stCxn id="632" idx="4"/>
            <a:endCxn id="645" idx="0"/>
          </p:cNvCxnSpPr>
          <p:nvPr/>
        </p:nvCxnSpPr>
        <p:spPr>
          <a:xfrm flipH="1">
            <a:off x="3090600" y="3858840"/>
            <a:ext cx="170640" cy="491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1603440" y="3778200"/>
            <a:ext cx="2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7720" y="397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02840" y="3678120"/>
            <a:ext cx="9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rra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57520" y="4267080"/>
            <a:ext cx="6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47000" y="423540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91280" y="3821040"/>
            <a:ext cx="6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104280" y="39686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173400" y="475776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7720" y="476712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"/>
          <p:cNvCxnSpPr>
            <a:stCxn id="645" idx="3"/>
            <a:endCxn id="656" idx="0"/>
          </p:cNvCxnSpPr>
          <p:nvPr/>
        </p:nvCxnSpPr>
        <p:spPr>
          <a:xfrm flipH="1">
            <a:off x="2877840" y="4465440"/>
            <a:ext cx="170640" cy="294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58" name=""/>
          <p:cNvCxnSpPr>
            <a:stCxn id="645" idx="5"/>
            <a:endCxn id="655" idx="1"/>
          </p:cNvCxnSpPr>
          <p:nvPr/>
        </p:nvCxnSpPr>
        <p:spPr>
          <a:xfrm>
            <a:off x="3132000" y="4465440"/>
            <a:ext cx="59760" cy="302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59" name=""/>
          <p:cNvSpPr/>
          <p:nvPr/>
        </p:nvSpPr>
        <p:spPr>
          <a:xfrm>
            <a:off x="2749680" y="4362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14000" y="440856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04560" y="48229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69680" y="47433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085840" y="44226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431800" y="42386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728440" y="48751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87360" y="486108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47880" y="43783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316560" y="340524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8" idx="3"/>
            <a:endCxn id="670" idx="7"/>
          </p:cNvCxnSpPr>
          <p:nvPr/>
        </p:nvCxnSpPr>
        <p:spPr>
          <a:xfrm flipH="1">
            <a:off x="5879520" y="3513240"/>
            <a:ext cx="454680" cy="2354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5778360" y="37386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40560" y="3352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73" idx="1"/>
            <a:endCxn id="668" idx="5"/>
          </p:cNvCxnSpPr>
          <p:nvPr/>
        </p:nvCxnSpPr>
        <p:spPr>
          <a:xfrm flipH="1" flipV="1">
            <a:off x="6418080" y="3512880"/>
            <a:ext cx="597600" cy="2354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4" name=""/>
          <p:cNvSpPr/>
          <p:nvPr/>
        </p:nvSpPr>
        <p:spPr>
          <a:xfrm>
            <a:off x="6607800" y="33526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311880" y="412740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64120" y="432900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"/>
          <p:cNvCxnSpPr>
            <a:stCxn id="668" idx="4"/>
            <a:endCxn id="675" idx="0"/>
          </p:cNvCxnSpPr>
          <p:nvPr/>
        </p:nvCxnSpPr>
        <p:spPr>
          <a:xfrm flipH="1">
            <a:off x="6371640" y="3530520"/>
            <a:ext cx="5400" cy="5896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8" name=""/>
          <p:cNvSpPr/>
          <p:nvPr/>
        </p:nvSpPr>
        <p:spPr>
          <a:xfrm>
            <a:off x="5549760" y="465300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"/>
          <p:cNvCxnSpPr>
            <a:stCxn id="670" idx="4"/>
            <a:endCxn id="676" idx="0"/>
          </p:cNvCxnSpPr>
          <p:nvPr/>
        </p:nvCxnSpPr>
        <p:spPr>
          <a:xfrm>
            <a:off x="5838840" y="3863880"/>
            <a:ext cx="18648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80" name=""/>
          <p:cNvCxnSpPr>
            <a:stCxn id="670" idx="3"/>
            <a:endCxn id="681" idx="0"/>
          </p:cNvCxnSpPr>
          <p:nvPr/>
        </p:nvCxnSpPr>
        <p:spPr>
          <a:xfrm flipH="1">
            <a:off x="5380920" y="3846600"/>
            <a:ext cx="415080" cy="342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81" name=""/>
          <p:cNvSpPr/>
          <p:nvPr/>
        </p:nvSpPr>
        <p:spPr>
          <a:xfrm>
            <a:off x="5321160" y="41958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092560" y="47293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81" idx="3"/>
            <a:endCxn id="682" idx="0"/>
          </p:cNvCxnSpPr>
          <p:nvPr/>
        </p:nvCxnSpPr>
        <p:spPr>
          <a:xfrm flipH="1">
            <a:off x="5152680" y="4303800"/>
            <a:ext cx="186480" cy="418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6997680" y="373860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4" name=""/>
          <p:cNvCxnSpPr>
            <a:stCxn id="673" idx="5"/>
            <a:endCxn id="685" idx="1"/>
          </p:cNvCxnSpPr>
          <p:nvPr/>
        </p:nvCxnSpPr>
        <p:spPr>
          <a:xfrm>
            <a:off x="7098840" y="3846600"/>
            <a:ext cx="437400" cy="442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6827760" y="4362480"/>
            <a:ext cx="119160" cy="117360"/>
          </a:xfrm>
          <a:prstGeom prst="ellipse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18240" y="4278240"/>
            <a:ext cx="119160" cy="11772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stCxn id="681" idx="5"/>
            <a:endCxn id="678" idx="1"/>
          </p:cNvCxnSpPr>
          <p:nvPr/>
        </p:nvCxnSpPr>
        <p:spPr>
          <a:xfrm>
            <a:off x="5422680" y="4303800"/>
            <a:ext cx="144720" cy="358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3" idx="4"/>
            <a:endCxn id="686" idx="0"/>
          </p:cNvCxnSpPr>
          <p:nvPr/>
        </p:nvCxnSpPr>
        <p:spPr>
          <a:xfrm flipH="1">
            <a:off x="6887880" y="3863520"/>
            <a:ext cx="170640" cy="491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89" name=""/>
          <p:cNvSpPr/>
          <p:nvPr/>
        </p:nvSpPr>
        <p:spPr>
          <a:xfrm>
            <a:off x="5237640" y="37576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660640" y="3992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$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57160" y="36939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,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54960" y="42973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75520" y="427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115040" y="472752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615000" y="4772160"/>
            <a:ext cx="119160" cy="11736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"/>
          <p:cNvCxnSpPr>
            <a:stCxn id="686" idx="3"/>
            <a:endCxn id="695" idx="0"/>
          </p:cNvCxnSpPr>
          <p:nvPr/>
        </p:nvCxnSpPr>
        <p:spPr>
          <a:xfrm flipH="1">
            <a:off x="6675120" y="4470480"/>
            <a:ext cx="170640" cy="294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86" idx="5"/>
            <a:endCxn id="694" idx="1"/>
          </p:cNvCxnSpPr>
          <p:nvPr/>
        </p:nvCxnSpPr>
        <p:spPr>
          <a:xfrm>
            <a:off x="6928920" y="4470120"/>
            <a:ext cx="204120" cy="267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5001840" y="48276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466960" y="47480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883120" y="44276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229080" y="42433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526080" y="48798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26120" y="48164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445160" y="4383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214040" y="38527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08960" y="3959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903000" y="43657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r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73160" y="448956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$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3A44-C9CF-4B6A-9386-AB7AEA37E2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Pat Trees: Analysis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 search for P is then a prefix que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ning time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+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number of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I/Os if the text is in external-memory (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ze of the Pat tree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antage of compression: the size of the simple trie of suffixes would be in the worst-c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1)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) + … 1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E6BC-1B76-4CAA-8716-7DE32912A1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ext-Search Data Structur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s of the lecture: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ictionary AD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for strings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understand the principles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ries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compact tries, Patricia 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xt-searching data structu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understand and be able to analyze text searching algorithm using th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uffix tre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and Pat tr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ull-text indices in external memor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understand the main principles of String B-tre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3FE1-FDBC-4661-9771-0327BDC92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nstructing Suffix Tre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aïve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ert all suffixes one after another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ver algorithms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cCreight, Ukkon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n the text from left to right, use additional suffix links in the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ow does the the Pat tree looks like after inserting the first five prefixes using the naïve algorith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"/>
          <p:cNvSpPr/>
          <p:nvPr/>
        </p:nvSpPr>
        <p:spPr>
          <a:xfrm>
            <a:off x="6400800" y="552924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nolulu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491160" y="5618160"/>
            <a:ext cx="16621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91160" y="561816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75480" y="561960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9440" y="561960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43760" y="561816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227720" y="561960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412040" y="5619600"/>
            <a:ext cx="18432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596360" y="5618160"/>
            <a:ext cx="183960" cy="289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07280" y="5327640"/>
            <a:ext cx="182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 2  3 4  5  6 7  8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777080" y="5621400"/>
            <a:ext cx="184320" cy="28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D3DE-F1A5-4DFB-B841-B1DA9573C8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Full-Text Indic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f the Pat tree does not fit in main memo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mber of external-memory data structures were propos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t ar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 B-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 B-tre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-tree for strings, i.e., supports dictionary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for text-searching if all suffixes are stored i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0E90-B05F-4E02-8598-CFB7332DAE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tring B-tre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337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gh ide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is external to the tree, strings are represented in the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tree by the indices of where they begin in the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uld mean do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) I/Os when visiting each node – too much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 – organize all keys in each node into a Patricia trie. When searching this trie (without any I/O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reach a leaf. What th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stop in the middle. What then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running time of text searc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7AB8-054D-485C-8043-6AD895CD91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ictionary ADT for String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Dictiona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DT for strings – stores a set of text string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– checks if str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n the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) – inserts a new str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o the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ete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ing equal t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set of 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s, no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s, </a:t>
            </a: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acters in to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length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ze of the alphabet </a:t>
            </a:r>
            <a:r>
              <a:rPr b="0" i="1" lang="en-US" sz="2400" spc="-1" strike="noStrike">
                <a:solidFill>
                  <a:srgbClr val="0000cc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D87B-EFE2-46A6-9684-F7F8289B61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ST of String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, of course, use binary search trees. Some iss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s are of varying 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t of strings share similar prefixes (beginnings) – potential for saving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count comparisons of charact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worst-case running time of searching for a string of leng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8B27-2FCD-4C9B-94A5-FCEB94FAC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ies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 data structure for storing a set of strings (name from the word “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”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assume, all strings end with “$” (not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93920" y="3014640"/>
            <a:ext cx="4030560" cy="2319480"/>
            <a:chOff x="2293920" y="3014640"/>
            <a:chExt cx="4030560" cy="2319480"/>
          </a:xfrm>
        </p:grpSpPr>
        <p:sp>
          <p:nvSpPr>
            <p:cNvPr id="219" name=""/>
            <p:cNvSpPr/>
            <p:nvPr/>
          </p:nvSpPr>
          <p:spPr>
            <a:xfrm>
              <a:off x="3822840" y="308916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9" idx="3"/>
              <a:endCxn id="221" idx="7"/>
            </p:cNvCxnSpPr>
            <p:nvPr/>
          </p:nvCxnSpPr>
          <p:spPr>
            <a:xfrm flipH="1">
              <a:off x="3631680" y="3196800"/>
              <a:ext cx="208800" cy="188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21" name=""/>
            <p:cNvSpPr/>
            <p:nvPr/>
          </p:nvSpPr>
          <p:spPr>
            <a:xfrm>
              <a:off x="3530520" y="3375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05160" y="33768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7200" y="30416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"/>
            <p:cNvCxnSpPr>
              <a:stCxn id="222" idx="1"/>
              <a:endCxn id="219" idx="5"/>
            </p:cNvCxnSpPr>
            <p:nvPr/>
          </p:nvCxnSpPr>
          <p:spPr>
            <a:xfrm flipH="1" flipV="1">
              <a:off x="3923640" y="3196440"/>
              <a:ext cx="299160" cy="189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3992400" y="301464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30640" y="36831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6" idx="3"/>
              <a:endCxn id="228" idx="7"/>
            </p:cNvCxnSpPr>
            <p:nvPr/>
          </p:nvCxnSpPr>
          <p:spPr>
            <a:xfrm flipH="1">
              <a:off x="3039480" y="3791160"/>
              <a:ext cx="208440" cy="187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28" name=""/>
            <p:cNvSpPr/>
            <p:nvPr/>
          </p:nvSpPr>
          <p:spPr>
            <a:xfrm>
              <a:off x="2938320" y="396864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6320" y="379116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"/>
            <p:cNvCxnSpPr>
              <a:stCxn id="221" idx="3"/>
              <a:endCxn id="226" idx="7"/>
            </p:cNvCxnSpPr>
            <p:nvPr/>
          </p:nvCxnSpPr>
          <p:spPr>
            <a:xfrm flipH="1">
              <a:off x="3331800" y="3483000"/>
              <a:ext cx="216720" cy="210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31" name=""/>
            <p:cNvSpPr/>
            <p:nvPr/>
          </p:nvSpPr>
          <p:spPr>
            <a:xfrm>
              <a:off x="4394160" y="450360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29080" y="425916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36760" y="4545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28" idx="3"/>
              <a:endCxn id="232" idx="7"/>
            </p:cNvCxnSpPr>
            <p:nvPr/>
          </p:nvCxnSpPr>
          <p:spPr>
            <a:xfrm flipH="1">
              <a:off x="2730240" y="4076640"/>
              <a:ext cx="226080" cy="192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2" idx="3"/>
              <a:endCxn id="233" idx="7"/>
            </p:cNvCxnSpPr>
            <p:nvPr/>
          </p:nvCxnSpPr>
          <p:spPr>
            <a:xfrm flipH="1">
              <a:off x="2437920" y="4366800"/>
              <a:ext cx="208800" cy="188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1" idx="4"/>
              <a:endCxn id="229" idx="0"/>
            </p:cNvCxnSpPr>
            <p:nvPr/>
          </p:nvCxnSpPr>
          <p:spPr>
            <a:xfrm>
              <a:off x="3591000" y="3500640"/>
              <a:ext cx="56160" cy="282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37" name=""/>
            <p:cNvSpPr/>
            <p:nvPr/>
          </p:nvSpPr>
          <p:spPr>
            <a:xfrm>
              <a:off x="3500280" y="420840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70400" y="457992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"/>
            <p:cNvCxnSpPr>
              <a:stCxn id="229" idx="4"/>
              <a:endCxn id="237" idx="0"/>
            </p:cNvCxnSpPr>
            <p:nvPr/>
          </p:nvCxnSpPr>
          <p:spPr>
            <a:xfrm flipH="1">
              <a:off x="3560400" y="3916080"/>
              <a:ext cx="86400" cy="284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0" name=""/>
            <p:cNvCxnSpPr>
              <a:stCxn id="237" idx="4"/>
              <a:endCxn id="238" idx="0"/>
            </p:cNvCxnSpPr>
            <p:nvPr/>
          </p:nvCxnSpPr>
          <p:spPr>
            <a:xfrm flipH="1">
              <a:off x="3530520" y="4333680"/>
              <a:ext cx="30600" cy="238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1" name=""/>
            <p:cNvSpPr/>
            <p:nvPr/>
          </p:nvSpPr>
          <p:spPr>
            <a:xfrm>
              <a:off x="3976560" y="37911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21" idx="5"/>
              <a:endCxn id="241" idx="0"/>
            </p:cNvCxnSpPr>
            <p:nvPr/>
          </p:nvCxnSpPr>
          <p:spPr>
            <a:xfrm>
              <a:off x="3631680" y="3482640"/>
              <a:ext cx="405720" cy="300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4002120" y="421632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2360" y="461484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1" idx="4"/>
              <a:endCxn id="243" idx="0"/>
            </p:cNvCxnSpPr>
            <p:nvPr/>
          </p:nvCxnSpPr>
          <p:spPr>
            <a:xfrm>
              <a:off x="4037040" y="3916080"/>
              <a:ext cx="25920" cy="292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3" idx="4"/>
              <a:endCxn id="244" idx="0"/>
            </p:cNvCxnSpPr>
            <p:nvPr/>
          </p:nvCxnSpPr>
          <p:spPr>
            <a:xfrm>
              <a:off x="4062240" y="4341960"/>
              <a:ext cx="30600" cy="26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7" name=""/>
            <p:cNvSpPr/>
            <p:nvPr/>
          </p:nvSpPr>
          <p:spPr>
            <a:xfrm>
              <a:off x="4065480" y="500400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4" idx="4"/>
              <a:endCxn id="247" idx="0"/>
            </p:cNvCxnSpPr>
            <p:nvPr/>
          </p:nvCxnSpPr>
          <p:spPr>
            <a:xfrm>
              <a:off x="4092120" y="4740480"/>
              <a:ext cx="34200" cy="255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4600440" y="367344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"/>
            <p:cNvCxnSpPr>
              <a:stCxn id="249" idx="5"/>
              <a:endCxn id="251" idx="1"/>
            </p:cNvCxnSpPr>
            <p:nvPr/>
          </p:nvCxnSpPr>
          <p:spPr>
            <a:xfrm>
              <a:off x="4702320" y="3781080"/>
              <a:ext cx="267120" cy="199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4951440" y="397044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"/>
            <p:cNvCxnSpPr>
              <a:stCxn id="222" idx="5"/>
              <a:endCxn id="249" idx="1"/>
            </p:cNvCxnSpPr>
            <p:nvPr/>
          </p:nvCxnSpPr>
          <p:spPr>
            <a:xfrm>
              <a:off x="4307040" y="3484440"/>
              <a:ext cx="311760" cy="1994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3" name=""/>
            <p:cNvSpPr/>
            <p:nvPr/>
          </p:nvSpPr>
          <p:spPr>
            <a:xfrm>
              <a:off x="5262480" y="429408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21320" y="4884840"/>
              <a:ext cx="11880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5" name=""/>
            <p:cNvCxnSpPr>
              <a:stCxn id="251" idx="5"/>
              <a:endCxn id="253" idx="1"/>
            </p:cNvCxnSpPr>
            <p:nvPr/>
          </p:nvCxnSpPr>
          <p:spPr>
            <a:xfrm>
              <a:off x="5052600" y="4078440"/>
              <a:ext cx="227880" cy="226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4807080" y="443700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49760" y="4595760"/>
              <a:ext cx="11916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>
              <a:stCxn id="257" idx="5"/>
              <a:endCxn id="259" idx="1"/>
            </p:cNvCxnSpPr>
            <p:nvPr/>
          </p:nvCxnSpPr>
          <p:spPr>
            <a:xfrm>
              <a:off x="5651640" y="4703400"/>
              <a:ext cx="241920" cy="199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5875200" y="4892760"/>
              <a:ext cx="119160" cy="11736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"/>
            <p:cNvCxnSpPr>
              <a:stCxn id="253" idx="5"/>
              <a:endCxn id="257" idx="1"/>
            </p:cNvCxnSpPr>
            <p:nvPr/>
          </p:nvCxnSpPr>
          <p:spPr>
            <a:xfrm>
              <a:off x="5363640" y="4401720"/>
              <a:ext cx="204120" cy="204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61" name=""/>
            <p:cNvSpPr/>
            <p:nvPr/>
          </p:nvSpPr>
          <p:spPr>
            <a:xfrm>
              <a:off x="6186600" y="5216400"/>
              <a:ext cx="118800" cy="117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"/>
            <p:cNvCxnSpPr>
              <a:stCxn id="259" idx="5"/>
              <a:endCxn id="261" idx="1"/>
            </p:cNvCxnSpPr>
            <p:nvPr/>
          </p:nvCxnSpPr>
          <p:spPr>
            <a:xfrm>
              <a:off x="5977080" y="5000760"/>
              <a:ext cx="227520" cy="226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43" idx="5"/>
              <a:endCxn id="231" idx="1"/>
            </p:cNvCxnSpPr>
            <p:nvPr/>
          </p:nvCxnSpPr>
          <p:spPr>
            <a:xfrm>
              <a:off x="4103640" y="4323960"/>
              <a:ext cx="308880" cy="189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31" idx="5"/>
              <a:endCxn id="254" idx="0"/>
            </p:cNvCxnSpPr>
            <p:nvPr/>
          </p:nvCxnSpPr>
          <p:spPr>
            <a:xfrm>
              <a:off x="4495680" y="4611240"/>
              <a:ext cx="186480" cy="2660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51" idx="3"/>
              <a:endCxn id="256" idx="0"/>
            </p:cNvCxnSpPr>
            <p:nvPr/>
          </p:nvCxnSpPr>
          <p:spPr>
            <a:xfrm flipH="1">
              <a:off x="4866840" y="4078440"/>
              <a:ext cx="102240" cy="3513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266" name=""/>
            <p:cNvSpPr/>
            <p:nvPr/>
          </p:nvSpPr>
          <p:spPr>
            <a:xfrm>
              <a:off x="3205080" y="3325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00880" y="3622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70120" y="3890880"/>
              <a:ext cx="26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93920" y="4164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0000" y="351000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49080" y="38610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84640" y="4272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1040" y="33577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78640" y="38908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2960" y="43164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86200" y="4697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621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720" y="416412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5040" y="332568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6280" y="36306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8040" y="3935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5480" y="424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7160" y="4545000"/>
              <a:ext cx="2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56240" y="4043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27840" y="4849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5800" y="5419800"/>
            <a:ext cx="83376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 of strings: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r, bid, bulk, bull, sun, sun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8D39-C2A4-4E31-9284-AEA555C7E5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ies I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ties of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ulti-way tr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from 1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tree is labeled with a charac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de corresponds to the stored string, which is a concatenation of characters on a path from the root to this node.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89F7-7658-4060-B85F-BAD33B79C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earch and Insertion in Tri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8337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arch algorithm just follows the path down the tree (starting with Trie-Search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0.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708120" y="1528920"/>
            <a:ext cx="81309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Sear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 P[k..m])  //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erts string P int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 is lea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=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Searc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, P[k+1..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867280"/>
            <a:ext cx="833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ould the delet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967200"/>
            <a:ext cx="81313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Inse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 P[k..m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 is not lea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therwise P is already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=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 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 a new child of 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a “branch” starting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th that chlid and stor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[k..m]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e-Inse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P[k]), P[k+1..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2353-04E6-4C7D-A213-9902319E33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ie Node Structur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 detail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node structure? = What is the complexity of the t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) operation?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r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 of siz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waist of space, bu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h 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: less waist of spac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expect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: compact, bu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in the worst-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inary search tr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hild pointers: compact a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l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)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in the worst-ca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A12E-9A61-4276-A4D6-5EA762D209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644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nalysis of the Tr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z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n the worst-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, insertion, and deletion (string of leng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ing on the node structure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with the string B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ing chains of one-child nodes is wasteful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ALG, lecture 4, © Simonas Šalteni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5536-5A21-4D90-B9E0-BE637E1F1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20:03:01Z</dcterms:created>
  <dc:creator>Simonas Saltenis</dc:creator>
  <dc:description/>
  <dc:language>en-US</dc:language>
  <cp:lastModifiedBy>Simonas Saltenis</cp:lastModifiedBy>
  <dcterms:modified xsi:type="dcterms:W3CDTF">2004-09-28T06:23:00Z</dcterms:modified>
  <cp:revision>46</cp:revision>
  <dc:subject/>
  <dc:title>Advanced Algorithm  Design and Analysis (Lecture 1)</dc:title>
</cp:coreProperties>
</file>